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DC61-D002-4797-8515-61DA646C5A2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8162E-1480-4D84-89CD-EF016E501E5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21D6-4A31-4BCE-BBFC-79F1817CEF2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32E2F-29B5-4221-8BDE-ECD3DEEB7C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7FEDD-CFD4-4438-9F8C-66BBF23D4D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164C-8816-48B7-BDBF-8CB0AAE1C90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E0ADB-D4EB-4219-BC1C-8D110E05979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CB8-A4AA-4A66-9F29-78A507BE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2AB-C8DA-4650-B542-6AC8B3C5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F49-F6D3-4950-B4A6-38606A5C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7BB-BDC6-4718-A11C-30CDA2F1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ED9-3F89-4C9B-9477-F4E2176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F3A-51FA-441E-A25F-1B8D052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1DA-94B6-4DC2-B1CB-4CB28216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9AD-706E-41FC-A5BA-57A3446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2F8-801A-498E-8F32-C9D1C43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DC3-8B76-459F-B0FE-A9279C70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1D9-40CB-4E52-ACB7-074C38F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71C-52D5-4AAE-9D61-80D4919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39599-94CA-4D34-B97D-0EC5EE87A7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60720" y="2340000"/>
            <a:ext cx="4319640" cy="414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19280" y="539640"/>
            <a:ext cx="774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Qué es la TECNOLOGÍ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619280" y="539640"/>
            <a:ext cx="7740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Qué es la Tecnologí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240000" y="2879640"/>
            <a:ext cx="3780000" cy="378000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1800360" y="3959280"/>
            <a:ext cx="1439640" cy="360360"/>
          </a:xfrm>
          <a:prstGeom prst="line">
            <a:avLst/>
          </a:prstGeom>
          <a:ln w="1080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7184880" y="3959280"/>
            <a:ext cx="1098720" cy="181080"/>
          </a:xfrm>
          <a:prstGeom prst="line">
            <a:avLst/>
          </a:prstGeom>
          <a:ln w="1080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6824160" y="5384880"/>
            <a:ext cx="932040" cy="210960"/>
          </a:xfrm>
          <a:prstGeom prst="line">
            <a:avLst/>
          </a:prstGeom>
          <a:ln w="1080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79280" y="2879640"/>
            <a:ext cx="306072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Comunicación con los o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020000" y="2340000"/>
            <a:ext cx="2916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Supervivencia y 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559640" y="5219640"/>
            <a:ext cx="216072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Hacer nuestras vidas más senci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152360" y="1332000"/>
            <a:ext cx="856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Los productos son diseñados y creados para resolver problemas particulares com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60720" y="2340000"/>
            <a:ext cx="4319640" cy="4140000"/>
          </a:xfrm>
          <a:prstGeom prst="rect">
            <a:avLst/>
          </a:prstGeom>
          <a:ln w="0">
            <a:noFill/>
          </a:ln>
        </p:spPr>
      </p:pic>
      <p:sp>
        <p:nvSpPr>
          <p:cNvPr id="68" name="Line 3"/>
          <p:cNvSpPr/>
          <p:nvPr/>
        </p:nvSpPr>
        <p:spPr>
          <a:xfrm>
            <a:off x="2160720" y="2700360"/>
            <a:ext cx="1439640" cy="539640"/>
          </a:xfrm>
          <a:prstGeom prst="line">
            <a:avLst/>
          </a:prstGeom>
          <a:ln w="108000">
            <a:solidFill>
              <a:srgbClr val="00d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1619280" y="5040360"/>
            <a:ext cx="3060720" cy="539640"/>
          </a:xfrm>
          <a:prstGeom prst="line">
            <a:avLst/>
          </a:prstGeom>
          <a:ln w="108000">
            <a:solidFill>
              <a:srgbClr val="00d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619280" y="539640"/>
            <a:ext cx="774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l impacto de la Tecnología se refleja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60360" y="5400720"/>
            <a:ext cx="23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ffff"/>
                </a:solidFill>
                <a:latin typeface="Arial"/>
              </a:rPr>
              <a:t>Individuos y sociedades a escala más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9640" y="2879640"/>
            <a:ext cx="1800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ffff"/>
                </a:solidFill>
                <a:latin typeface="Arial"/>
              </a:rPr>
              <a:t>A escala global, especialmente a nivel medioambi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079640" y="1619280"/>
            <a:ext cx="7956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Para vosotros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¿QUÉ ES LA TECNOLOGÍ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079640" y="395280"/>
            <a:ext cx="7956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Cuáles de estos productos son TECNOLÓGIC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568440" y="1927080"/>
            <a:ext cx="258120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2 Imagen" descr=""/>
          <p:cNvPicPr/>
          <p:nvPr/>
        </p:nvPicPr>
        <p:blipFill>
          <a:blip r:embed="rId2"/>
          <a:stretch/>
        </p:blipFill>
        <p:spPr>
          <a:xfrm>
            <a:off x="6611760" y="1908000"/>
            <a:ext cx="3056040" cy="2251080"/>
          </a:xfrm>
          <a:prstGeom prst="rect">
            <a:avLst/>
          </a:prstGeom>
          <a:ln w="0">
            <a:noFill/>
          </a:ln>
        </p:spPr>
      </p:pic>
      <p:pic>
        <p:nvPicPr>
          <p:cNvPr id="79" name="3 Imagen" descr=""/>
          <p:cNvPicPr/>
          <p:nvPr/>
        </p:nvPicPr>
        <p:blipFill>
          <a:blip r:embed="rId3"/>
          <a:stretch/>
        </p:blipFill>
        <p:spPr>
          <a:xfrm>
            <a:off x="3745080" y="1908000"/>
            <a:ext cx="2411280" cy="2349720"/>
          </a:xfrm>
          <a:prstGeom prst="rect">
            <a:avLst/>
          </a:prstGeom>
          <a:ln w="0">
            <a:noFill/>
          </a:ln>
        </p:spPr>
      </p:pic>
      <p:pic>
        <p:nvPicPr>
          <p:cNvPr id="80" name="4 Imagen" descr=""/>
          <p:cNvPicPr/>
          <p:nvPr/>
        </p:nvPicPr>
        <p:blipFill>
          <a:blip r:embed="rId4"/>
          <a:stretch/>
        </p:blipFill>
        <p:spPr>
          <a:xfrm>
            <a:off x="568440" y="4257720"/>
            <a:ext cx="2603520" cy="2047680"/>
          </a:xfrm>
          <a:prstGeom prst="rect">
            <a:avLst/>
          </a:prstGeom>
          <a:ln w="0">
            <a:noFill/>
          </a:ln>
        </p:spPr>
      </p:pic>
      <p:pic>
        <p:nvPicPr>
          <p:cNvPr id="81" name="5 Imagen" descr=""/>
          <p:cNvPicPr/>
          <p:nvPr/>
        </p:nvPicPr>
        <p:blipFill>
          <a:blip r:embed="rId5"/>
          <a:stretch/>
        </p:blipFill>
        <p:spPr>
          <a:xfrm>
            <a:off x="3456000" y="4716360"/>
            <a:ext cx="3386160" cy="2257560"/>
          </a:xfrm>
          <a:prstGeom prst="rect">
            <a:avLst/>
          </a:prstGeom>
          <a:ln w="0">
            <a:noFill/>
          </a:ln>
        </p:spPr>
      </p:pic>
      <p:pic>
        <p:nvPicPr>
          <p:cNvPr id="82" name="6 Imagen" descr=""/>
          <p:cNvPicPr/>
          <p:nvPr/>
        </p:nvPicPr>
        <p:blipFill>
          <a:blip r:embed="rId6"/>
          <a:stretch/>
        </p:blipFill>
        <p:spPr>
          <a:xfrm>
            <a:off x="6921360" y="4351320"/>
            <a:ext cx="298476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079640" y="1619280"/>
            <a:ext cx="7956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Y la siguiente pregunta sería…¿CÓMO SE ESTUDIA TECNOLOGÍA EN EL COLEGI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UNA PALABRA: P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1:43:46Z</dcterms:created>
  <dc:creator>Colegio de San Francisco de Paula Colegio de San Francisco de Paula</dc:creator>
  <dc:description/>
  <dc:language>en-US</dc:language>
  <cp:lastModifiedBy>sfpaula.default</cp:lastModifiedBy>
  <dcterms:modified xsi:type="dcterms:W3CDTF">2012-09-06T10:18:31Z</dcterms:modified>
  <cp:revision>5</cp:revision>
  <dc:subject/>
  <dc:title>Presentación de PowerPoint</dc:title>
</cp:coreProperties>
</file>